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3344-CB98-4F98-B5E8-08A39968C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0E09-324B-476A-80B3-AE046397B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F6A1-906E-47A4-9DC6-F3FFC1F9B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dcasting became available through the use of portable listening devices such as iPods and MP3 Players.  Similar to the concept of Broadcasting and Television Podcasts are transmitted in a variety of ways and formats.  Mostly podcasts are sent through RSS feeds.  RSS or Really Simple Syndication is a quick and easy way for individuals to create and receive podc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AE50-A73B-4D95-B023-1B8992E0B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main types of podcasts: Simple Podcasts refer to audio only.  Enhanced podcasts utilize images and sound together, while a Vcast, videocast, or Vodcast rely on actual video foo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A4DE-387B-4302-AEDC-EBDF717CA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ke and Mike in the Morning, Morning Edition of All things considered, your favorite television episode (Heroes for example)  Some are free and others require a subscription c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F78A-6644-4B27-9CFB-4CD836090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 Scholarly lectures or student projects, Receive information on President Elect Obama’s cabinet picks, Provide your students with humorous and engaging lessons on gram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108-B70B-4F6E-A182-00D91CF43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Government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2BF8-CA50-45E0-AA14-9E72A20F0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planning gu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ybo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dcasting Script 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71B5-3313-4C6C-894A-E0A10ADAF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hort an to th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grab your sources for proper c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consistent voice/ sound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enhance not de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ED79-377A-4C0E-AC5F-46B22DE50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637-70DF-4C72-82C3-63A60DC7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F81-49CA-4B9E-B030-6FE3C8FE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279-9878-4E33-97DF-4E17AB2A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56D-E171-4A38-B2B6-F51B60D8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9266-778E-4935-887A-B1065B35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092F-26C0-4CDC-9554-49767B6A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A518-75A7-4371-BB1E-3131C826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F4DC-33A5-43C4-9803-D07922A6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7E33-1B1B-4D5E-A6EB-DD76D196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94A3-541F-4431-A138-71C5AF4A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19F4-D264-4B04-95CA-05624E06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967-E246-4B13-B6BD-BC4E59FA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0AB5-6384-487F-9137-FC32F7CF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4868-D1DC-47E4-8ED4-FA0B6D38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1F1B-323E-47F2-8EA8-0BF55DA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13CF-6C51-43D1-BF96-4E0A727D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85AC-E8C1-4F89-ABBB-64B56F4D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094A-8A95-4008-8465-15F352AF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9DE9-E23F-4293-882E-6580E5C6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B473-6D2C-4A3C-A9AE-04D1AA20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F77C-4B8F-42B4-89A4-DAF0399A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939E-8156-4FD3-A177-C44175A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663-E3D9-463E-911C-4B9153E4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DEFEC-0201-42A2-8646-23DD73C6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AA1E-744F-49B1-B12A-1BC9FE53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B174-206A-41A5-8B3D-EB01220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DFF9-32CC-4B7C-A6EF-D82D01BA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9F55-E4AA-4457-B9C9-B0C42F47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FBD6-5748-407E-8EE5-3B33DF5D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F7C7-65D2-4D9A-8EB4-B46B1329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7CA6-E26B-4C64-989F-CF076B59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0480-DFCA-4E81-8B05-9ACBB888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9C81-BF30-49E3-8D2C-8CDFFD6B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E75-C975-45AB-B3D8-B0B29136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B661-BEBC-4F35-888D-2102E5CD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206B-A3B8-4655-8565-D99B1BFB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E8B70-70EF-465A-8B57-D776D13E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69D5-CCB5-4ABC-A172-95ACF7C0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13CC7-0ED6-43CD-99D9-EB4CF94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7F3A4-5D18-482F-B83A-DB02D501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61C2E-566F-4911-BB49-8329FE8F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F3665-F4FE-42C0-9A50-EF593D24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F262C-2FA0-4547-BC74-A9D2048F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CF8B9-B180-4B7E-B312-EAD6B2B6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099-E03D-4BFB-93F2-06E44950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8181-DDEE-415A-A578-63BBB5DC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DA4A-C157-4BF4-B996-DB1A9E4F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BE84-12C2-4B1D-80D9-531ADCD6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1D22D-AC87-415F-9419-490F9DD0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7841-80D7-49D9-8E38-A1519F33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981C-8119-4F97-BF6B-2038EA2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A275-1713-4146-AED3-B9205494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3B566-44DB-4F21-B3D0-E9F755C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9E3E-2622-4DC7-A228-AA8EF2F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D66E5-7CFC-4244-9E2F-D52937DF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884-19EB-4817-B9F6-168E675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F0FF-1358-468B-9A21-5D509278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2BA-67B1-455D-B7F1-A11D169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C2D-E1BB-4D34-98D9-8306138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E4D-7E5C-42EE-AC97-2906FDBA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024B-4151-4D67-B22E-9EA69FE2D19E}" type="datetime">
              <a:rPr b="0" lang="en-US" sz="1000" spc="-1" strike="noStrike">
                <a:solidFill>
                  <a:srgbClr val="575f6d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8C4C-7B5A-45BF-8808-A7676F11F65F}" type="slidenum">
              <a:rPr b="0" lang="en-US" sz="1100" spc="-1" strike="noStrike">
                <a:solidFill>
                  <a:srgbClr val="575f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1DDE-1B19-4C98-94AB-C331705C1F4F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BF12-A77C-4B97-A22F-5A23BC3ED85F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148C-A1FD-4633-9C72-11C37AF076FE}" type="datetime">
              <a:rPr b="0" lang="en-US" sz="1000" spc="-1" strike="noStrike">
                <a:solidFill>
                  <a:srgbClr val="575f6d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6FAF-37F7-49FF-9866-103F43BB15B3}" type="slidenum">
              <a:rPr b="0" lang="en-US" sz="1100" spc="-1" strike="noStrike">
                <a:solidFill>
                  <a:srgbClr val="575f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f39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39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66DA-E00D-4DC9-A8EC-8AC5067EC2E9}" type="datetime">
              <a:rPr b="0" lang="en-US" sz="1000" spc="-1" strike="noStrike">
                <a:solidFill>
                  <a:srgbClr val="fff39d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D1B8-4B8E-447D-A58C-D2363C55F393}" type="slidenum">
              <a:rPr b="0" lang="en-US" sz="1100" spc="-1" strike="noStrike">
                <a:solidFill>
                  <a:srgbClr val="fff39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4846-6FCF-4ABF-97BE-1DCC71A2D841}" type="datetime">
              <a:rPr b="0" lang="en-US" sz="1000" spc="-1" strike="noStrike">
                <a:solidFill>
                  <a:srgbClr val="575f6d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9B30-7651-4333-9FD9-6124E62104A6}" type="slidenum">
              <a:rPr b="0" lang="en-US" sz="1100" spc="-1" strike="noStrike">
                <a:solidFill>
                  <a:srgbClr val="575f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82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asic Podcasting for the Classro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3" descr=""/>
          <p:cNvPicPr/>
          <p:nvPr/>
        </p:nvPicPr>
        <p:blipFill>
          <a:blip r:embed="rId2"/>
          <a:stretch/>
        </p:blipFill>
        <p:spPr>
          <a:xfrm>
            <a:off x="3359160" y="938160"/>
            <a:ext cx="5119560" cy="2884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0200"/>
            <a:ext cx="723888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Pods and MP3 play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ally Simple Syndication (RS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2133720"/>
            <a:ext cx="72388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d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nhanced Pod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odcasts, Vcasts, or Video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2142720"/>
            <a:ext cx="7238880" cy="34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PN Sports rad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ational Public Rad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un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cessing Commercial Podcasts to share with stud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unes Universit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N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rammar Girl’s Quick and Dirty Tips for Better Writing (iTunes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-Created Pod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structional Too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irections and Explanations for projec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omework Posting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ubstitute Lessons and Direction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esson Promp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udent-Created Pod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formational Repor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xplanation of projects or process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howcase original work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dcasting Too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udacit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arageBand (Macs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cas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lann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lear goals and int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cripting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llecting Material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toryboar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rite the script fir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llect images, music, and sounds in one pla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cord your script in segm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 mus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 imag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sit the Education Podcasting Network 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ttp://www.epnweb.org/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3:58:42Z</dcterms:created>
  <dc:creator>gallagherj</dc:creator>
  <dc:description/>
  <dc:language>en-US</dc:language>
  <cp:lastModifiedBy>Jim Gallagher</cp:lastModifiedBy>
  <dcterms:modified xsi:type="dcterms:W3CDTF">2008-12-17T16:16:48Z</dcterms:modified>
  <cp:revision>23</cp:revision>
  <dc:subject/>
  <dc:title>Podcasting 101</dc:title>
</cp:coreProperties>
</file>